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6AE-B17B-4361-ABA6-ECC42A97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B2C5-1E6B-4EEC-8561-3E4CFBAF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5533-E05F-4C92-B4DA-2F4AB29E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C4FF-B13F-4067-9C4E-1402F0EB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0D5-02BE-4528-8A99-864834CE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973-3A28-49C0-9AEE-66A152B8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53B-DC7C-4E9C-9D11-6EBE92A6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1331-5672-4190-9929-A03AC911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C4A8-C199-4CDF-83D0-B83F50FE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D9E6-17A9-410E-9DFB-C80DECC7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0C8-02DE-4E58-9C9F-DDA91B36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EEA-AEE6-4394-BB36-21830D14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5FB2-A771-4496-9F27-863E03E52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winlink.org/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inlink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INMOR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ound Card ARQ Mode for Winlink HF Digital Messag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ick Muething,  KN6KB/AAA9W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86868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37800" y="5943600"/>
            <a:ext cx="588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Point Presentation available 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winlink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lementation Detail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NMOR DSP Processing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8010720" cy="57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mplementation Details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rame Leader…Tuning and Frame I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3623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23623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7353360" cy="961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257800" y="2362320"/>
            <a:ext cx="24382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1440" y="1752480"/>
            <a:ext cx="41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se reversing “Two Tone” L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6 ms BP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54280" y="1676520"/>
            <a:ext cx="2453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 ID DBP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4 Ex Hamm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20" y="3886200"/>
            <a:ext cx="31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tial 1024 Point FF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has good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itivity and sel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-5dB S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27560" y="377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464832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365760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41972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41920" y="4800600"/>
            <a:ext cx="331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 ID defi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/Data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tion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C Coding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Carr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3280" y="5486400"/>
            <a:ext cx="524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 defi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NCO freq (interpolated to .1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ymbol Sync (Envelope matc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ing (Frame Syn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7720" y="373392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 Decode 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200400" y="3581280"/>
            <a:ext cx="1386000" cy="2019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851960" y="2743200"/>
            <a:ext cx="9914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P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P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Q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F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87840" y="1371600"/>
            <a:ext cx="40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 reversed phase frame sy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676520"/>
            <a:ext cx="177840" cy="761760"/>
          </a:xfrm>
          <a:custGeom>
            <a:avLst/>
            <a:gdLst/>
            <a:ahLst/>
            <a:rect l="l" t="t" r="r" b="b"/>
            <a:pathLst>
              <a:path w="112" h="480">
                <a:moveTo>
                  <a:pt x="0" y="0"/>
                </a:moveTo>
                <a:cubicBezTo>
                  <a:pt x="40" y="32"/>
                  <a:pt x="80" y="64"/>
                  <a:pt x="96" y="144"/>
                </a:cubicBezTo>
                <a:cubicBezTo>
                  <a:pt x="112" y="224"/>
                  <a:pt x="104" y="352"/>
                  <a:pt x="96" y="4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lementation Detail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FDM PSK, QAM DSP Modul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0640" y="1219320"/>
            <a:ext cx="8854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ymbol Data is used to set the Real and Imagin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y magnitudes for each OFDM Carr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 Data = 0,1  (QPSK)  &gt;   FRea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   FIma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 (90De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91680" y="2362320"/>
            <a:ext cx="67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epeat for each carr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28 Point Inverse FFT  (one IFFT per symbo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3200400"/>
            <a:ext cx="0" cy="38088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0840" y="3581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ime sample values for all carriers generated simultaneous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1400" y="4114800"/>
            <a:ext cx="76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hape Envelope (raised cosine) to bound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24440" y="4075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18080" y="613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5410080"/>
            <a:ext cx="302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vert to WAV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or Sound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4648320"/>
            <a:ext cx="0" cy="38088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5257800"/>
            <a:ext cx="3629160" cy="1324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lementation Detail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FDM PSK, QAM DSP Demodulation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0320" y="1600200"/>
            <a:ext cx="8490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Use 123 point Hilbert Transform, NCO and balanced LSB Mixing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generate I and Q samples with signal re centered on 1250.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erform 128 point FFT for each symbol using I and Q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Use the Real and Imaginary frequency values for each 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o compute phase and amplitude for each symbol of each c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ubtract phase values of prior symbol to get differential PSK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or QAM use dynamic threshold  adjustment to track Phas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mplitude ratios in fading chann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ecode Phase and Amplitude symbol to corresponding binar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(BPSK = 1bit, QPSK=2 bits, 8PSK= 3 bits, 16QAM=4 bi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lementation Detail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EC, Selective ARQ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140760" y="1143000"/>
            <a:ext cx="9616320" cy="55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NMOR uses several mechanisms for err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covery and redunda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EC Data Encoding… Currently use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4,8 Extended  Hamming D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min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= 4  (used in ACK and Frame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16 Bit CRC for data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wo-level Reed-Solomon (RS) FEC for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irst level Weak FEC  e.g. RS 140,116 (corrects 12 errors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cond level Strong FEC e.g.  RS 254,116 ( corrects 69 err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2) Selective ARQ.  Each carrier’s data contains a Packet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Number (PS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e ACK independently acknowledge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ach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PSN so on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arriers with failed PSNs get repe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(the software manages all the PSN accounting and re-sequenc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lementation Detail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mory ARQ, MCA, Dynamic Threshold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1760" y="1523880"/>
            <a:ext cx="8788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3) Memory ARQ. The analog phase and amplitude of each demod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ymbol is saved for summation (phasor averaging) over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rames.  Summation is cleared and restarted if max count reac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Reed-Solomon FEC error decoding done </a:t>
            </a: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sum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4) Multiple Carrier Assignment (MCA) . The same PSN can be as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o multiple Carriers (allows tradeoff of throughput for robustnes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vides an automatic  mechanism for frequency redundanc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tection from interference on some carr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5) Dynamic threshold adjustment (used on QAM modes) hel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ompensate for fading which would render QAM modes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n fading chann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lementation Detail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“Virtual TNC” Concept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0480" y="990720"/>
            <a:ext cx="8196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n trying to anticipate how WINMOR might be integrated i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pplications we came up with a “Virtual TNC” conce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s essentially allows an application to integrate the WINM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tocol by simply treating the WINMOR code as just another T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nd writing a driver for that TNC…. A “Virtual TNC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Like all TNCs there are some (&lt;10) parameters to set 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all sign, timing info, sound card, keying mechanism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e WINMOR Software DLL can even be made to appear a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hysical TNC by “wrapping” the DLL with code that accesse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rough a virtual serial port or a TCPIP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Like a physical TNC WINMOR has a “front panel” with flas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lights. But since operation is automatic with no front panel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nteraction required the WINMOR TNC can be visible or hid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-8380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NMOR “Virtual TNC”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creen Capture: 15 Carrier QPSK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01000" cy="3216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733920" y="37339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37339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37339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37339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9720" y="5310360"/>
            <a:ext cx="35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”  recovery after Sum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emory AR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70520" y="6072120"/>
            <a:ext cx="29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”  no decode, Good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dded to summ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5120" y="5942160"/>
            <a:ext cx="34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”  no decode, poor ID 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ot added to summ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64000" y="4929120"/>
            <a:ext cx="1867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decoded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057040" y="3886200"/>
            <a:ext cx="1676520" cy="1523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886200" y="3962520"/>
            <a:ext cx="380880" cy="2133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3962520"/>
            <a:ext cx="152640" cy="2057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3962520"/>
            <a:ext cx="83844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5280" y="838080"/>
            <a:ext cx="262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PSK Conste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eavy fad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pixel = 1 symb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45360" y="121932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2440" y="110340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io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51040" y="1332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1447920"/>
            <a:ext cx="15228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1600200"/>
            <a:ext cx="457200" cy="19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7467480" y="1676520"/>
            <a:ext cx="533520" cy="2133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02360" y="121932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s Rece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1523880"/>
            <a:ext cx="457200" cy="198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46120" y="556272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KHz water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410080" y="4800600"/>
            <a:ext cx="60984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80880" y="2476440"/>
            <a:ext cx="8153640" cy="33148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-2286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NMOR “Virtual TNC”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creen Capture: 3 Carrier 16QAM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21680" y="6032520"/>
            <a:ext cx="1508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” 3 C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ded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72640" y="1295280"/>
            <a:ext cx="351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QAM Circular Conste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White Gaussian Noise @ 5d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pixel = 1 symb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5000" y="1752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51040" y="1332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4572000"/>
            <a:ext cx="6094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343040" y="480060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2133720"/>
            <a:ext cx="380880" cy="19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1905120"/>
            <a:ext cx="190476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152388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ning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3581280"/>
            <a:ext cx="6094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1905120"/>
            <a:ext cx="1143000" cy="1676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03080" y="6019920"/>
            <a:ext cx="257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ive decode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6934320" y="3657600"/>
            <a:ext cx="380880" cy="228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419360" y="2895480"/>
            <a:ext cx="53316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0440" y="62848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KHz water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5334120" y="5638320"/>
            <a:ext cx="30456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-2286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asurement Approach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HF Channel Sim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981080"/>
            <a:ext cx="365760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uter &amp; SignaLink USB Sound 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MOR Virtual TN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4038480"/>
            <a:ext cx="4572000" cy="1981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69320" y="4140360"/>
            <a:ext cx="35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dio In                                    Audio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9246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81280" y="342900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791320" y="34286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9718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36576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36576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562720" y="29714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53560" y="3809880"/>
            <a:ext cx="281412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IR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nel Op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/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–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15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hite Gaussian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 pat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Goo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Fair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at Fad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oder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Sev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ut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43240" y="4659480"/>
            <a:ext cx="350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egon Hardware/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F Channel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sed in both dire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29520" y="563868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S2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56840" y="2514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2514600"/>
            <a:ext cx="0" cy="32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57913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1981080"/>
            <a:ext cx="3657600" cy="99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uter &amp; SignaLink USB Sound 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MOR Virtual TN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51560" y="298296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63440" y="297180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25400" y="3048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2000" y="3048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19520" y="3429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895480" y="350496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3680" y="1143000"/>
            <a:ext cx="66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The way to get true repeatable comparis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78200" y="5943600"/>
            <a:ext cx="25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hannels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in simul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oday’s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NMOR… A work in progress… Follow-on to SC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otivation… Why another sound card 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Unique requirements for a message oriented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RF Footprint and Robustness Ag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odulation schemes investi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mplementation detai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SP processing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uning, Modulation, Demodulation, Error reco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creen captures of the WINMOR “Virtual TNC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NMOR Movi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easurements Using the HF channel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eliminary Comparisons with Pactor 1, 2,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eployment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Remaining work to be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eliminary Comparison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NMOR 200 Hz vs. Pactor 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23640" y="5715000"/>
            <a:ext cx="670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s Run 9/2008 by Rick Muething, KN6K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age of 4 channels (WGN, CCIR Multipath Poor, Multipath Good, Moderate Flat Fad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roughput averaged over 5 minut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MOR has Ex Hamm 4,8 on ACK , RS FEC on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57200" y="990720"/>
          <a:ext cx="7715160" cy="472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7715160" cy="47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2363400" y="518148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79720" y="518148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5680" y="518148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11640" y="525780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eliminary Comparison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NMOR 500 Hz vs. Pactor 1,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23640" y="5791320"/>
            <a:ext cx="670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s Run 9/2008 by Rick Muething, KN6K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age of 4 channels (WGN, CCIR Multipath Poor, Multipath Good, Moderate Flat Fad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roughput averaged over 5 minut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MOR has Ex Hamm 4,8 FEC on ACK, RS FEC on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838080" y="995400"/>
          <a:ext cx="7263000" cy="473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5400"/>
                    <a:ext cx="726300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2592000" y="518148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000" y="518148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11520" y="518148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06800" y="525780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eliminary Comparison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NMOR 2000 Hz vs. Pactor 2,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23640" y="5715000"/>
            <a:ext cx="6707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s Run 9/2008 by Rick Muething, KN6K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age of 4 channels (WGN, CCIR Multipath Poor, Multipath Good, Moderate Flat Fad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 Car 16QAM points averaged for WGN and Moderate Flat Fading channel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roughput averaged over 5 minut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MOR has Ex Hamm 4,8 FEC on ACK,  RS FEC on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38080" y="990720"/>
          <a:ext cx="7467840" cy="46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46784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3201840" y="502920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3440" y="50292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45040" y="50292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65080" y="507348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5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2172000">
            <a:off x="3200040" y="2666880"/>
            <a:ext cx="2057400" cy="533520"/>
          </a:xfrm>
          <a:prstGeom prst="ellipse">
            <a:avLst/>
          </a:prstGeom>
          <a:solidFill>
            <a:srgbClr val="f4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09640" y="2530440"/>
            <a:ext cx="118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 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Q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GN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2286000"/>
            <a:ext cx="152280" cy="1522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800600" y="3352680"/>
            <a:ext cx="152280" cy="152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NMOR Deployment Strategy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7000" y="974880"/>
            <a:ext cx="867384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duce the final Virtual TNC as a DLL (Graphics display is opt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ntegrate the DLL into the Paclink MP client and RMS Serv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or full and immediate access to the WL2K system for beta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ffer “Wrapper” functions to interface the WINMOR DLL v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 virtual serial port or TCP/IP po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(allows easier access by other existing application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ese slides and preliminary WINMOR spec will be posted o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nlink.org</a:t>
            </a: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 web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No decision to date as to licensing or open 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NMOR may be released through the Amateur Radio 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oundation Inc.  a 501C(3) public charity corporation whi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upports amateur radio emergency communic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Estimated start of beta test (Winlink 2000 system) 3 – 6 mon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maining Work to be Do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5640" y="1143000"/>
            <a:ext cx="8849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nvestigate inner cyclic FEC codes for PSK data modes (1-2 dB gain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ptimize “gear shifting” algorithm (basic algorithm operat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ntegrate Busy Channel Detector (SCAMP ?) and ID (CW, Waterfall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nvestigate crest factor minimization (possible 1-2 dB improvement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nvestigate 15 Car 16QAM mode (2 Kbits/sec) for VHF/UHF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inalize WINMOR documentation and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ocument DLL interface and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uild drivers for Paclink MP and RMS and beta test in Win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omplete help and statistical logging fun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960" y="914400"/>
            <a:ext cx="89089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NMOR looks promising and the testing to date confir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und card ARQ is possible with a modern CPU and 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hile making acceptable CPU processing de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 CPU Loading of &lt; 20% on a 1.5 GHz Celeron/Win X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2) Throughput and robustness can be adjusted auto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o cover a wide range of bandwidth needs and channel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10:1 bandwidth range,  57:1 throughput r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3) ARQ throughput in excess of .5 bits/sec/Hz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n fair to good channel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.68 - .82 bits/sec/Hz measu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4) Good ARQ efficiency …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70-75%</a:t>
            </a: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5) Throughput is currently competitive with P2 and P3 an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ignificantly better than P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ank You!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oday’s Objec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8120" y="1600200"/>
            <a:ext cx="8136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vide you an update on a promising sound card mode targe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t messag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Give some (within our time limits) of the technical details on h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e are approaching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how some preliminary test results and “apples-to-apples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omparisons with the defacto standard P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Encourage others to learn about and get competent in DSP a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pplies to amateur ra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Get feedback from you on alternate approaches and sugg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or implementation and deploy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6094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ronym Cheat Shee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1480" y="685800"/>
            <a:ext cx="89161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CIR     Consultative Committee on International Radio (now The ITU-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WGN     White Gaussian Noise (a simple HF channel mod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PG      CCIR Multipath Good (a standard moderate HF channel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PP      CCIR Multipath Poor (a standard poor HF channel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OFDM    Orthogonal Frequency Division Multiplex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PSK       Phase Shift Keying (carrier phase is modulated) BPSK(2), QPSK(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SK       Frequency Shift Keying (frequency of the carrier is mod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4FSK     FSK using one of 4 tones per symbol (2 bits per symb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QAM      Quadrature Amplitude Modulation (phase </a:t>
            </a: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amplitude are mod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16QAM  Phase and Amplitude modulation with 16 states (4 bits per symb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EC       Forward Error Correcting (use of error correcting co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CA      Multiple Carrier Assignment (same data to multiple carrier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DFT     Redundant Digital File Transfer (mode by Barry Sanderson, KB9VA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RQ      Automatic Retry reQuest (mechanism to eliminate error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FT        Fast Fourier Transform (digital method of a discrete Fourier Trans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FFT       Inverse Fourier Transform ( Frequency to Time transfor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NCO      Numerically Controlled Oscillator (done in 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, Q        The “In phase” and “Quadrature” channels of the Fourier Trans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NC       Terminal Node Controller (RF Mode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DSP       Digital 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Hilbert Transform       A mathematical transform to generate I and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INMOR… A work in prog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3640" y="1222200"/>
            <a:ext cx="888876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NMOR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=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N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link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ssage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ver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n outgrowth of the work presented on SCAMP at DCC 200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CAMP put an ARQ “wrapper” around Barry Sanderson’s RDFT then integ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CAMP into a Client and Server for access to the Winlink messag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CAMP proved it COULD be done and it worked in GOOD channels bu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Barry’s batch oriented DLLs were slow and required frame pipelinin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ncreasing complexity and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DFT only changed the RS encoding on it’s  8PSK multi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waveform to achieve a 3:1 range in speed/robustness… not en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DFT was inefficient in Partial Frame recovery (no Memory AR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DFT was a 2.4 KHz mode…limited to narrow HF sub b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CAMP’s Simple multi-tone ACK/NAK did not carry Session ID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…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ncreasing chances of fatal cross session contamin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INMOR is an ARQ mode generated from the ground up to address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mitations of SCAMP/RDFT and leverage on what was learned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tiv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0400" y="914400"/>
            <a:ext cx="85626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Winlink has grown over the years and expanded applica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any RVers and Boaters use it for remote E-mail and 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Now many more adopting it for Emergency Communi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RES/RACES EmCo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A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UK Cad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Humanitarian Missions (IHS, Red Cross, Salvation Army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mergency applications dictate special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tation Cost is an iss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Limited budgets and resourc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ldom used (often equipment sits idle unless drill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raining, or actual emerg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onsistency across multiple stations…. Training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VHF is used but HF is needed to bridge out of affected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any with limited budgets get by with Pactor 1 and 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t’s throughput and robustness limi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at is needed and much requested is a lower cost “plug and pla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ternative to Pactor that approaches P2 and P3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quirements for a Message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Oriented Sound card Protoco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1200" y="1905120"/>
            <a:ext cx="4835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olut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tandard SSB Radio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utomatic connections (no manual tu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rror-free transmission/confi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ast lock for reasonable ARQ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uto adapt to wide range of HF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upport true binary with 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Loose” ARQ timing to accommo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OS and sound card latency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ll packets tagged with sessi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2720" y="1905120"/>
            <a:ext cx="4121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sh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odest OS and CPU de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200Hz, 500Hz, 2000Hz bandwid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ompatible with most sound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Good bits/sec/Hz ( &gt;.5 targ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fficient Mod/Demod for low la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lective ARQ and Memory AR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r throughput &amp; robus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Near Pactor ARQ efficiency (7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ffective busy channel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7480" y="5410080"/>
            <a:ext cx="847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en you analyze the details and make true apples-to-app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arisons you quickly realize that P2 &amp; P3 set the bar pretty hig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F Footprint and Robustness Ag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175248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396252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546120" y="255564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Net bits/sec/Hz of B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2112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4800" y="2743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211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1935720" y="4238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T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2491560" y="42944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PSK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3075120" y="430704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P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3506040" y="445896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HF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4216680" y="43448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Pacto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4826520" y="43430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Pacto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5436000" y="43430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Pa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886200"/>
            <a:ext cx="228600" cy="76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3809880"/>
            <a:ext cx="2286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3733920"/>
            <a:ext cx="22860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657600"/>
            <a:ext cx="228600" cy="304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3505320"/>
            <a:ext cx="22860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2133720"/>
            <a:ext cx="228600" cy="1828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1600200"/>
            <a:ext cx="228600" cy="2362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87480" y="1117440"/>
            <a:ext cx="732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omparison of Some Popular Modes in ARQ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1760" y="1828800"/>
            <a:ext cx="37213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%  ARQ efficien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ypical of Pa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x RAW data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good channel assum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 Hz guard band used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ndwidth calculation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llows automatic connecti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114120" y="2700720"/>
            <a:ext cx="190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(After ARQ overhe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9720" y="5232240"/>
            <a:ext cx="8841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small RF foot print requires maximizing the net Bits/Sec/Hz  BUT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ALSO must be able to adapt the modulation for more robus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poorer signal conditions. This “robustness agility” is why Pac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d 3 perform so well across a wide range of channel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289548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20240" y="26668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arget For WIN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dulation Schemes Investigate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238880" y="228600"/>
            <a:ext cx="1128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WINMOR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5000" y="1371600"/>
            <a:ext cx="8789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One of the wish list items was to offer 3 bandwidth modes to be able to op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n the various (or future?) bandwidth segments of 200Hz, 500Hz and &lt; 3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urrent FCC regulations (arguably obsolete) require a maximum HF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ate of 300 symbols / sec. This eliminates high symbol rate adaptive sche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mproved multipath operation is obtained with lower symbol rates (&lt; 100 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e following modes were investigate in the early development pha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ulti carrier OFDM  BPSK, QPSK @ carrier spacing = 1 x symbol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ulti carrier OFDM BPSK, QPSK, 16QAM at carrier spacing = 2 x symbol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ngle and multiple carrier FSK  (2 FSK and 4 FSK) at spacing 1 x symbol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ecently the development effort has been focused on 62.5 baud BPSK, QP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nd 16QAM and 31.25 baud 4FSK using 1 (200 Hz), 3 (500Hz) and 15 (2000Hz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arriers spaced at 2 x symbol rate. These appear to offer high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nd robustness especially when combined with multi-level FEC co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462880" y="0"/>
            <a:ext cx="681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20:53:38Z</dcterms:created>
  <dc:creator>Gerald Muething</dc:creator>
  <dc:description/>
  <dc:language>en-US</dc:language>
  <cp:lastModifiedBy>Gerald Muething</cp:lastModifiedBy>
  <dcterms:modified xsi:type="dcterms:W3CDTF">2008-09-24T17:50:28Z</dcterms:modified>
  <cp:revision>66</cp:revision>
  <dc:subject/>
  <dc:title>WINMOR…A Sound Card ARQ Mode for Winlink HF Digital Messaging </dc:title>
</cp:coreProperties>
</file>